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68F5-1196-426F-AD4B-D1EE98118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AEE8-B395-494B-A984-543BB620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3334-E8C5-4C49-9F9F-A5E441A29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BEDC-F205-4A57-B304-1BA03F849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139B-652C-4394-BE2A-00C02456C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AC5C-F60B-4A92-94DC-EC0B40EC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08D0D-940D-4551-B4D9-1EF5E6CF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D122-1145-49F2-B620-D6CF655B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ADEC-5F3B-4B1F-8FA3-C829D51F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2D34-7441-4CB3-8DAE-B19A1648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DA541-847E-4358-9936-4DCC81D2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C9C6-888C-4B41-A283-1BD428D9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922D-07B8-49D4-9B7D-F85C62CD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504B-CE23-4E22-9D2C-4D7DC8E5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53A5-96CD-4F13-A3FB-AFE2A72B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957A-977B-465A-A222-C21319CFA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288C-2348-4229-9E19-582059339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2EA78-046C-4F8A-AC13-D7CCF32F6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DB948-9FD7-4095-8C92-DC290977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9E931-07B6-4A56-86EF-8B9F4FC2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E1911-04DB-479E-BE91-720F64C7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E617B-D468-4504-A581-040340A0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6E2D-AB49-4610-B067-8CB7482B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40D27-63CD-4BDD-8559-5C9A4ADF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B6B7D-AFD8-4E53-88FB-E1DB8367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ACE73-D7C7-4E92-8CC7-55533DC4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BAB94-169C-47D5-AA8A-13762650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52C4A-85B8-4C46-B652-A35BCBD3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AF19A-B2B3-46E7-993F-3004679E4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E0161-DEC0-468E-BA64-594FD7A26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81341-FC71-4906-9F4C-6B996FEF3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6C408-34E1-494D-B493-46E8FEAE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5F63A-12D1-43B1-A1B4-18A6C94C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0FBF-2FE3-4544-A2B6-B0FC3F47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DA7D8-FA3C-428F-83C4-51649642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EE81C-456D-43A0-A1BE-D93C2CD7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49ECE-E7DD-4213-B6F8-081C5204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3EAA9-B1AD-4A0C-AAD9-C365B33C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2BE63-A765-40B1-9F6B-71435716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023C0-C41C-4185-ACAD-3C482BDF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6C144-B536-4DF7-82D3-1D3F58A5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3DA68-A7EE-4707-98F3-AF24E686B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8701B-7BFC-4C0F-BB76-92F900640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9DC97-C089-40EA-87A3-35EC6255C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9DD5-36DB-4883-9A17-4113955B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2B088-645E-4C01-8E64-83E8A359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96F01-6728-4069-8ABC-73DFA4E2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93772-4AB2-439D-AAAF-68AF6F2B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E65BE-0D4C-4FD1-89FE-AC81E4B3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57303-193A-45AA-A26E-57F28B13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3B7F9-487A-4E86-B0AD-CD9646BD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F5CB8-F1A5-4DEF-BE22-6C6454A2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F16A7-95C1-42DD-9105-C728E72E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F5CF6-7C8F-4C26-A9BF-AFAE39CB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F691D-FCA9-4DF9-9350-7ABDEDA9C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E78A-2053-4FC6-93CD-AEAB537D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4A072-EDB2-48EF-AA8D-3B0E6B8F7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622C8-16BC-4126-98B1-E064B160A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CF846-09F5-4A7A-9D39-A6A00CE7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55123-7E65-47D6-8487-EFB04C9D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95540-CA29-402F-BC6C-A859FD07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79BCE-B674-47D5-AEAE-2ED9F9FC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D8536-441D-47CC-B7BE-1EA6A73C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4AB88-9A85-4A16-B5AC-1089C9C4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B2470-F754-41B9-BFBB-4977F2CF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21226-B869-4DA6-BDF8-EBA901CD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450E-505C-467B-A2B2-8EB6803C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B5C16-5ACA-4F26-ABCE-550E03D4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4127D-05AB-4A5C-9717-981EF9E51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CD8D3-1383-4B18-8E57-3D30063C0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BE563-153A-41B1-ADAA-F0AD8C8DA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2EEC7-D45F-492E-8D6D-898F6F01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2E187-9260-4995-993E-F687F263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56FE2-6467-439B-96D7-141EC20B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48CAD-30C8-4600-8E3F-4D765D57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5B57B-7F5E-4248-AC2A-21FF1C0F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CE1E7-A94F-4557-B076-A21CDA42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7CC3-20D8-4DD4-B2A2-7E41F18D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1EAEC-693F-4786-86EE-CC8D5FFD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5A7F8-6FEB-4DCF-9677-75CF8F17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4ED3A-2D4A-4EF3-AE87-0DE15943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A80BF-B2FA-4C05-BC6E-925BD475C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655A0-6EB2-4DBA-A911-457018531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11EF-98D5-4184-9B27-EEC2F3CF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6A05-0FAD-4274-9520-510874B0E2B1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58D5-4D58-45EB-ACA6-2ADA67DD4D4F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1F93-1249-4AA6-B757-54333C6C9800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5013-D754-46BE-B446-22B3DCA747F7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EAA3-5F47-4A2C-B838-4ABD28296A06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2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AEB7-0135-4A2A-8EDA-669DFA1D9993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7817-C8EE-45C8-A539-8D6D6B85336B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55560" y="148428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GB" sz="2000" spc="-1" strike="noStrike">
                <a:solidFill>
                  <a:srgbClr val="ffffff"/>
                </a:solidFill>
                <a:latin typeface="Candara"/>
              </a:rPr>
              <a:t>RESCAP-MED Capacity Development Workshop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Candara"/>
              </a:rPr>
              <a:t>Health Policy Evaluation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Candara"/>
              </a:rPr>
              <a:t>Amman, Jordan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Candara"/>
              </a:rPr>
              <a:t>3-6 June 2013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55560" y="393336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ndara"/>
              </a:rPr>
              <a:t>Shahaduz Zaman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ndara"/>
              </a:rPr>
              <a:t>Newcastle  University, UK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37" name="Picture 5" descr="http://research.ncl.ac.uk/media/sites/researchwebsites/rescapmed/EUlogo.jpg"/>
          <p:cNvPicPr/>
          <p:nvPr/>
        </p:nvPicPr>
        <p:blipFill>
          <a:blip r:embed="rId1"/>
          <a:stretch/>
        </p:blipFill>
        <p:spPr>
          <a:xfrm>
            <a:off x="262080" y="244440"/>
            <a:ext cx="811080" cy="5302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http://research.ncl.ac.uk/media/sites/researchwebsites/rescapmed/FP7logo2.jpg"/>
          <p:cNvPicPr/>
          <p:nvPr/>
        </p:nvPicPr>
        <p:blipFill>
          <a:blip r:embed="rId2"/>
          <a:stretch/>
        </p:blipFill>
        <p:spPr>
          <a:xfrm>
            <a:off x="1073160" y="243000"/>
            <a:ext cx="695160" cy="530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" descr=""/>
          <p:cNvPicPr/>
          <p:nvPr/>
        </p:nvPicPr>
        <p:blipFill>
          <a:blip r:embed="rId3"/>
          <a:stretch/>
        </p:blipFill>
        <p:spPr>
          <a:xfrm>
            <a:off x="6732720" y="243000"/>
            <a:ext cx="2187360" cy="8715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newcastle_master_col"/>
          <p:cNvPicPr/>
          <p:nvPr/>
        </p:nvPicPr>
        <p:blipFill>
          <a:blip r:embed="rId4"/>
          <a:stretch/>
        </p:blipFill>
        <p:spPr>
          <a:xfrm>
            <a:off x="365040" y="5732640"/>
            <a:ext cx="28069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understand the basic concepts of health policy making and implementation process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identify and analyse different stakeholders in policy making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understand health policy making in the globalizing world and the role of national and international players in the process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understand the cultural aspects of health and health policy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describe the health policy analysis framework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Understand the challenges of health policy implementation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Compare health policy situation between different developing countries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andara"/>
              </a:rPr>
              <a:t>Learning objectives of the workshop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: Basic Concept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making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Agenda setting process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Stakeholder analysi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1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andara"/>
              </a:rPr>
              <a:t>st</a:t>
            </a: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  Day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in the globalizing world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ulturally competent health policy: Developing country contex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in the context of political crisis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Role of research in health policy making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2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andara"/>
              </a:rPr>
              <a:t>nd</a:t>
            </a: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 Day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Analysis Framework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ase Studies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Health Policy Situation: Palestine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Health Policy Situation: Syria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Health Policy Situation: Jordan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Policy Implementation: Experiences from Jordan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Policy brief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Panel Discussion and Q &amp; 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3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andara"/>
              </a:rPr>
              <a:t>rd</a:t>
            </a: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 Day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Group reading of selected health policy evaluation paper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Presentations of the group reading and Q&amp;A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losing remarks and Evaluation of the workshop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4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andara"/>
              </a:rPr>
              <a:t>th</a:t>
            </a: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 Day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457200" y="242100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Shahaduz Zaman, Newcastle University, UK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Motasem Hamdan, Palestine, Al-Quds University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Abdullatif Husseini, Palestine, Birzeit University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Fouad Fouad, Syria, American University of Beirut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73e87"/>
                </a:solidFill>
                <a:latin typeface="Candara"/>
              </a:rPr>
              <a:t>Yousef Khader</a:t>
            </a: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, Jordan, Jordan University of Science and Technology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Musa Ajlouni, </a:t>
            </a: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Jordan, Jordan University of Science and Technology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Riyad Amin Okour, Jordan, Ministry of Health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Jamal Abu Saif, Jordan, Ministry of Health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Facilitators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Start on time—End on tim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Maintain a flexible, responsive schedule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Only one person talks at a tim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Any question is a good questio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ell phones are turned off during session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Some group norms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Enjoy the workshop </a:t>
            </a: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	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10:17:01Z</dcterms:created>
  <dc:creator>nsz4</dc:creator>
  <dc:description/>
  <dc:language>en-US</dc:language>
  <cp:lastModifiedBy>User</cp:lastModifiedBy>
  <dcterms:modified xsi:type="dcterms:W3CDTF">2013-05-31T23:41:13Z</dcterms:modified>
  <cp:revision>8</cp:revision>
  <dc:subject/>
  <dc:title>PowerPoint Presentation</dc:title>
</cp:coreProperties>
</file>